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E3F3-A89B-440D-860E-BF863DE5FCCE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F6D8-07F6-41AC-9BF6-48EFD804FEB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A08C-5D0E-407D-8FBC-7979641C553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3B76-9808-496E-8FFC-CB40740FB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FE1D-7885-475A-9DC0-8F5F6AAB5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C04D-9FF2-44DB-961C-F2DE8BF2B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43AE-02F8-4D1D-B6B5-FCEEF2A8DFD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76AE-B184-4310-B829-D64D2BFDB6A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0D1F-0814-4AA4-BB68-89A0F5E4630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117D-4D52-4872-BF65-1E8D780647F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CC01-2349-432E-B30C-348827D528B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0515-63DB-4A6A-8A5B-553272D877E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86FD-4EB8-4517-B3FB-51BEFF95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91BA-0D37-407B-88B8-0E77297D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06F6-B1B9-45D4-9367-8EC324C6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8F4-B8A8-4335-BF8C-A046D0F4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19AB-6F58-43F8-A854-98395F06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5EA6-3AE5-4EBC-94FF-2ECC127B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BBEE-B4F4-4161-9971-803E1AD1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390D-8B05-499B-97BF-B947B483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2BC4-FF50-4D22-829C-0BDF7A92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898F-C484-4DAE-8AD1-E74F2193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BAEC-DA1B-44ED-8A66-A5DD1A54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8930-3835-474F-8FC5-65B735FA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43E04-6FB2-45F3-8CF9-FFB0CBB2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F84A-0BFD-46BF-8720-09BCB90D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5718-DB2A-4B08-969E-1849C425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465F-2B0D-4F15-91FC-C059F6BB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844B-4A33-4E3C-B4DB-32067956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54F9-74ED-4D9F-B891-BF165D1D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0E2-3264-4BEF-8DA7-5596A8C6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217-5CE0-40A5-9A28-8C5EA081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E825-E9AA-40A2-94DA-F38DB501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1D52-BE8D-42F9-9216-D65244B1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B7A-FB4D-4BF8-BB37-81180D38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BDA0-E22B-4C6B-BD53-D85F1043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2B52-1406-4A25-AD4C-DC954721638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6D695-1898-46B7-8C06-7A634EE1D46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8.-9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49:47Z</dcterms:modified>
  <cp:revision>343</cp:revision>
  <dc:subject/>
  <dc:title>Slide 1</dc:title>
</cp:coreProperties>
</file>